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coin.wav" ContentType="audio/x-wav"/>
  <Override PartName="/ppt/media/image4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15.wmf" ContentType="image/x-wmf"/>
  <Override PartName="/ppt/media/image1.jpeg" ContentType="image/jpeg"/>
  <Override PartName="/ppt/media/image7.png" ContentType="image/png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  <p:sldId id="272" r:id="rId35"/>
    <p:sldId id="273" r:id="rId36"/>
    <p:sldId id="274" r:id="rId37"/>
    <p:sldId id="275" r:id="rId38"/>
    <p:sldId id="276" r:id="rId39"/>
    <p:sldId id="277" r:id="rId40"/>
    <p:sldId id="278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slide" Target="slides/slide17.xml"/><Relationship Id="rId36" Type="http://schemas.openxmlformats.org/officeDocument/2006/relationships/slide" Target="slides/slide18.xml"/><Relationship Id="rId37" Type="http://schemas.openxmlformats.org/officeDocument/2006/relationships/slide" Target="slides/slide19.xml"/><Relationship Id="rId38" Type="http://schemas.openxmlformats.org/officeDocument/2006/relationships/slide" Target="slides/slide20.xml"/><Relationship Id="rId39" Type="http://schemas.openxmlformats.org/officeDocument/2006/relationships/slide" Target="slides/slide21.xml"/><Relationship Id="rId40" Type="http://schemas.openxmlformats.org/officeDocument/2006/relationships/slide" Target="slides/slide22.xml"/><Relationship Id="rId41" Type="http://schemas.openxmlformats.org/officeDocument/2006/relationships/slide" Target="slides/slide23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dt" idx="4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8BEF1-3ED3-4770-899F-75A3BA146DA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5"/>
          <p:cNvSpPr>
            <a:spLocks noGrp="1"/>
          </p:cNvSpPr>
          <p:nvPr>
            <p:ph type="ftr" idx="4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6"/>
          <p:cNvSpPr>
            <a:spLocks noGrp="1"/>
          </p:cNvSpPr>
          <p:nvPr>
            <p:ph type="sldNum" idx="4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AF802-BD22-456C-9435-B3C86C81D1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03B97-A8F0-48AE-911D-988D5155F30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3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575FD-BF07-47F2-BE2E-E0CC47490B2B}" type="slidenum">
              <a:rPr b="0" lang="fr-FR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AEC61-E0ED-40F9-9CA5-4551DB67FDDA}" type="slidenum">
              <a:rPr b="0" lang="fr-FR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FC250-EC62-41D8-AC51-43C37FEA5E9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2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3" name="PlaceHolder 1"/>
          <p:cNvSpPr>
            <a:spLocks noGrp="1"/>
          </p:cNvSpPr>
          <p:nvPr>
            <p:ph type="body"/>
          </p:nvPr>
        </p:nvSpPr>
        <p:spPr>
          <a:xfrm>
            <a:off x="914400" y="4338360"/>
            <a:ext cx="5029200" cy="4227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914B-7B95-48E0-9974-9FD17E4BA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373B-1AC9-4438-9D8D-38B409B47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C86DBF-7C00-4A2F-B91D-DD8A763C8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43E27F-C1B9-4DDB-975A-E110FCBFA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148B1D-8DDA-4A14-91F2-971639FBC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6A8115-4E5D-4432-B76F-D61B159FF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0A1213-DFA7-48D2-893A-E0860F3A7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27D73C-D9FF-4FA8-BFD1-D01127945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43667D-FAE3-49A6-BCF8-60E42886A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109C13-018D-4DE3-BE6B-4EA40911D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E94AEB-7818-4353-87F3-02B971E86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B26D73-039B-45DF-A66C-249B7BE0C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D15A-2FEC-4DFC-9125-5D5430369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DAC699-50A7-4356-B881-B9FC05102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EE8BB0-F9D1-4DB1-B65C-C23663C85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344944-9123-4B06-8BFE-BAC5E6F0C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702B44-8622-4070-83B9-394310947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70B387-38AE-43BA-9CFE-05E7A0F01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228B44-B961-45C6-81CA-FE3EE0E30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6B1451-33F8-48C2-A475-845B5EE88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A55600-036E-482D-A1E1-67C14A6F6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3F3313-6A36-4DE3-B6E1-244B30032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657272-16DC-47A6-BC34-1EDCEEE45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B531-0721-405B-9DF3-B65B0D20A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5E32D5-CD7A-4E0C-98E4-D2F912E98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F5D3E-75AA-4D34-80E7-94E65C18E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08F37-5F50-496C-9DA4-5D9DB6000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24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25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F42AF6F-E9AC-4F9E-80BE-52235247F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08A3730-F4F1-44D5-89CD-81BD2F6E7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287010E-2667-4F52-8C04-03640270F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039404A-FB89-4616-884F-F0CD12F25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CE88036-C1D1-413C-8FDD-6ED32EABD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18F06-C442-437D-91C1-8E16543D6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6E96E8E-7FB6-4D47-9BF3-1BE26AEC3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2C36638-C563-47CB-B86C-18C910AD4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7EEE0FB-FCEA-42D4-BF39-EF8A4A644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397E4AA-6BC0-47B4-A8E3-C4E3DF382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0A7B488-E273-481A-94F0-253ED0EFF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F12E239-F98D-4B17-B685-CB657DEE3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68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69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2954041-9419-46A6-BCC1-97D8D173E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086FC10-DB29-4E64-8169-173F412DA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1E34CDD-437C-4AEB-A096-C5A267080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C81854C-C133-420A-ADA4-C849AF688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8C6C0-C947-412A-BD1C-7E385B82B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A491A05-2BAE-4AD8-B40D-6DAF79C9A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06C6593-E4B1-48DE-9D87-BADC1177C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F5B148F-4210-4AED-8C41-EB2949653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5116FE3-6A1A-4D89-841F-8B4FD121B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88FC31C-AB98-431B-BAA7-ADE01A116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433AA3DD-B347-4E66-8888-F914A95B0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14739A6-045F-4D7C-857E-03FB5B385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FAEAB5E-21BD-4408-81F0-BE58F1A7F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3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F1A65F6-3459-45AB-8DE6-B58463D2D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296E9AF7-ADF1-4392-ADAD-DE24AAE38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57A11-11BC-490D-BFF9-8A1AB2109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A3C9EE12-EDAA-4C7A-B9FB-A96199823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2DF0FCB6-FB15-4223-854A-F016094B9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E098135F-D84E-46E7-991F-2F4FCB1BD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862C9147-995C-4B31-A85D-5E7A171D0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5743D570-BFEE-4B5E-B1F0-50179170A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26917240-7E8A-4934-B451-EEF440E69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AC62026F-C208-4AFA-A028-5DFE4D641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27F8EBC9-7BEB-4DE9-A504-9DD439494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516BE17E-4A07-447C-9BC3-2AB3A362D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89815FC6-FEF0-46F9-8E1B-2ED48527B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97B6F-5DEC-46A6-BD13-085D7D0A9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B14FED14-036D-47DE-A7E0-04931B59B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A1EEE331-DBF5-496E-8F70-5FB22AC3A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05A1D19A-A15A-469E-9B6F-51BFE5BB8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FC2B6D46-1443-4357-A820-76A649A7A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601CDF40-0B19-4291-AA0F-731BC447F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328AA17E-4773-43AE-AC85-8A2E2405E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34D571E0-BAF5-4CE8-9266-76519D15A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CD95BF11-68F9-4505-A5FA-62768A855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693CC2E6-B09F-4A51-84F4-427D64248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FD5984B8-15E8-4CA2-89BD-8DBE8CCDD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99D9E-9EB9-47A9-B4B2-3CF945496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DC1807CA-E78A-4ABE-93C4-3FE6583E4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6B371623-C328-4259-8981-66D17F9EB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00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01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02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D3EFFB00-87F2-4F1F-8778-F57D3B8CE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D181-899F-4AA5-8A46-4B91D04F5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FB8D7-4739-426E-84B6-D8DB43600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36D3D-0BA8-4700-B3B2-F2657D8A6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BFD84-9348-429B-973F-D762D898C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6E336-80E3-4457-9E76-AFE62FE96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90C96-4CD0-4010-8562-A244D57CF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66B25B-4D32-4837-9DAE-8B9D5DFA2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6F5520-792D-4BAC-9541-D67D9DA10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F9F981-D6BE-4947-AB50-A78DD634E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790968-B296-499E-BBAF-3F3DA3366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2F76EF-3727-4430-98BE-5E21C6845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8FE9-A581-4D8A-95AC-CD414B70C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9464E9-4070-4B39-BFA4-AB1DA2D8A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60DB32-E8F8-4800-B86E-B7713F8F7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9EA33B-3C32-4F2C-8C03-18EEE0151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684AE5-B7F6-4F85-8A9B-39E656291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50BF50-E6B8-4D0F-B57A-FA46ED419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992EE1-D642-45FF-9CBC-5F977D608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ACD705-88C7-4332-915A-638C28D02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058054-9CD3-4982-82C5-54DBF6223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E4A952-045E-42C9-8CE6-ABAB740CD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3C84AB-670C-47E2-BCE9-BADE322D2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156D-E081-4CC8-83CF-2DCCD707A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CCE07D-B838-46D6-B1CA-762F71274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A7ABCC-252B-43CC-872C-E98F97036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3B66E5-6B95-4ED6-B505-42947A75D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5230CF-B17B-43FD-BC4D-9E2C08856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F202F1-DE5B-44F1-B371-D9F850D77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2CA5EE-476A-4AA4-A75C-7CBB0295D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7BC5F4-7735-460F-9741-4169430AF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46ACF3-10A6-4F48-AB27-AF1457DC0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CACB7F-EEA4-48C3-9335-0EF1855E3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B3DA71-6963-47ED-BCBE-D3CC87A56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075E-E4EE-4D4F-8D74-4C377F638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D45907-7676-4443-928C-B7B8D77E9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ED7C24-B703-4F1F-A172-C78A6F316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AD5C97-4561-43F9-AD91-0D08067D0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01BA35-D868-4D8B-BE6B-761E09A46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019B60-F50C-4BCF-B9FB-3888480FB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3D0FC3-E62C-4312-A926-CBB8EAB27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D9DACC-D760-4363-8A48-BA9D1CE6C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6F2CD3-2931-48BD-AF30-A65DDEA90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84B9DC-5EBE-4C58-A0DC-2043CF286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AB355C-6F11-4917-A4F7-208CEC219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7264-9F7B-4B59-AA74-99EE3D494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1B3971-2A82-4E7E-8B9D-05E486DD4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9BE1E7-6A6E-4D43-8DA8-6F8AAC47F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C3041B-737F-441A-AF55-D2D4DAA98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CEAEC3-7F75-4431-8456-BB6D44FD7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D68626-EE0A-4B41-ACFC-46F9FCD0B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A611F8-7734-46BF-83D4-2956638B1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4AC9AA-1C74-41FE-8789-87AB95D9C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230DA5-8D35-49DA-9D06-9DC3C6F10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95D8B3-16A0-49EE-AC77-B1A7AAE8A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7BF996-98F8-4FF2-8E4C-A5392BF65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2B48-7DDF-4BCE-99A2-63082A35A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FF6DA0-4B8A-440D-8657-174A8DE74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B22359-9AA9-4DF3-89BA-6093E5188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256AFA-2A91-4BA5-BB48-FA5B727FB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7B4FD8-C760-463F-B053-AA603FD83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6215F0-1B90-482C-964C-9352295B5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C8BE76-1ADF-4956-B39F-670919EB0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923551-1C94-4611-B4C7-0FCF099A0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A033A1-B526-4710-8749-A80061DA0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14E291-F850-4618-932E-CB415FC29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62E9D5-34FB-479E-A75D-314C64C76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2B02-88CB-4D35-8FD1-7D908111E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0A34DA-AB36-4173-AD2C-9F0D39228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E9E06F-CFFF-467C-AFD4-3030C9873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33B094-A2F1-4D0F-B068-10171E2FB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8505A6-9D08-4693-8EEB-D6754176D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B4E105-CF22-46DA-949C-611D53280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7C2CE2-C427-463A-8D1F-E1CE066AA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482398-5D94-4FE3-AC5B-1A4BA49E3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6E4939-5AC5-45AF-B905-2B43FF90E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AC003F-B2E6-4CE8-A70E-5B606AA9F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B1EBFB-F6B6-479A-8844-B23058799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27FA-49CF-4358-A2B7-C6A454F56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047749-DC32-47C7-AB18-C6C094278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6968F8-AAE1-443C-AA98-F9E4F9A20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B3FC41-3C57-45CE-A741-876B7C857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751BD2-D2FC-488D-803D-55B3586EE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5E8C15-D101-4183-8C4D-DE1725367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9BDF1E-4967-41A8-86E4-07842A5BE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76D43C-E1A3-4BA5-8F87-A9105FAFF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25B2EF-930B-496A-88E0-D266E1ECB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27A3CB-19DB-47DB-BE62-79758DA32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3D6460-05F6-42CC-8409-0A8DF5638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45.xml"/><Relationship Id="rId7" Type="http://schemas.openxmlformats.org/officeDocument/2006/relationships/slideLayout" Target="../slideLayouts/slideLayout146.xml"/><Relationship Id="rId8" Type="http://schemas.openxmlformats.org/officeDocument/2006/relationships/slideLayout" Target="../slideLayouts/slideLayout147.xml"/><Relationship Id="rId9" Type="http://schemas.openxmlformats.org/officeDocument/2006/relationships/slideLayout" Target="../slideLayouts/slideLayout148.xml"/><Relationship Id="rId10" Type="http://schemas.openxmlformats.org/officeDocument/2006/relationships/slideLayout" Target="../slideLayouts/slideLayout149.xml"/><Relationship Id="rId11" Type="http://schemas.openxmlformats.org/officeDocument/2006/relationships/slideLayout" Target="../slideLayouts/slideLayout150.xml"/><Relationship Id="rId12" Type="http://schemas.openxmlformats.org/officeDocument/2006/relationships/slideLayout" Target="../slideLayouts/slideLayout151.xml"/><Relationship Id="rId13" Type="http://schemas.openxmlformats.org/officeDocument/2006/relationships/slideLayout" Target="../slideLayouts/slideLayout152.xml"/><Relationship Id="rId14" Type="http://schemas.openxmlformats.org/officeDocument/2006/relationships/slideLayout" Target="../slideLayouts/slideLayout153.xml"/><Relationship Id="rId15" Type="http://schemas.openxmlformats.org/officeDocument/2006/relationships/slideLayout" Target="../slideLayouts/slideLayout154.xml"/><Relationship Id="rId16" Type="http://schemas.openxmlformats.org/officeDocument/2006/relationships/slideLayout" Target="../slideLayouts/slideLayout155.xml"/><Relationship Id="rId17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57.xml"/><Relationship Id="rId7" Type="http://schemas.openxmlformats.org/officeDocument/2006/relationships/slideLayout" Target="../slideLayouts/slideLayout158.xml"/><Relationship Id="rId8" Type="http://schemas.openxmlformats.org/officeDocument/2006/relationships/slideLayout" Target="../slideLayouts/slideLayout159.xml"/><Relationship Id="rId9" Type="http://schemas.openxmlformats.org/officeDocument/2006/relationships/slideLayout" Target="../slideLayouts/slideLayout160.xml"/><Relationship Id="rId10" Type="http://schemas.openxmlformats.org/officeDocument/2006/relationships/slideLayout" Target="../slideLayouts/slideLayout161.xml"/><Relationship Id="rId11" Type="http://schemas.openxmlformats.org/officeDocument/2006/relationships/slideLayout" Target="../slideLayouts/slideLayout162.xml"/><Relationship Id="rId12" Type="http://schemas.openxmlformats.org/officeDocument/2006/relationships/slideLayout" Target="../slideLayouts/slideLayout163.xml"/><Relationship Id="rId13" Type="http://schemas.openxmlformats.org/officeDocument/2006/relationships/slideLayout" Target="../slideLayouts/slideLayout164.xml"/><Relationship Id="rId14" Type="http://schemas.openxmlformats.org/officeDocument/2006/relationships/slideLayout" Target="../slideLayouts/slideLayout165.xml"/><Relationship Id="rId15" Type="http://schemas.openxmlformats.org/officeDocument/2006/relationships/slideLayout" Target="../slideLayouts/slideLayout166.xml"/><Relationship Id="rId16" Type="http://schemas.openxmlformats.org/officeDocument/2006/relationships/slideLayout" Target="../slideLayouts/slideLayout167.xml"/><Relationship Id="rId17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69.xml"/><Relationship Id="rId7" Type="http://schemas.openxmlformats.org/officeDocument/2006/relationships/slideLayout" Target="../slideLayouts/slideLayout170.xml"/><Relationship Id="rId8" Type="http://schemas.openxmlformats.org/officeDocument/2006/relationships/slideLayout" Target="../slideLayouts/slideLayout171.xml"/><Relationship Id="rId9" Type="http://schemas.openxmlformats.org/officeDocument/2006/relationships/slideLayout" Target="../slideLayouts/slideLayout172.xml"/><Relationship Id="rId10" Type="http://schemas.openxmlformats.org/officeDocument/2006/relationships/slideLayout" Target="../slideLayouts/slideLayout173.xml"/><Relationship Id="rId11" Type="http://schemas.openxmlformats.org/officeDocument/2006/relationships/slideLayout" Target="../slideLayouts/slideLayout174.xml"/><Relationship Id="rId12" Type="http://schemas.openxmlformats.org/officeDocument/2006/relationships/slideLayout" Target="../slideLayouts/slideLayout175.xml"/><Relationship Id="rId13" Type="http://schemas.openxmlformats.org/officeDocument/2006/relationships/slideLayout" Target="../slideLayouts/slideLayout176.xml"/><Relationship Id="rId14" Type="http://schemas.openxmlformats.org/officeDocument/2006/relationships/slideLayout" Target="../slideLayouts/slideLayout177.xml"/><Relationship Id="rId15" Type="http://schemas.openxmlformats.org/officeDocument/2006/relationships/slideLayout" Target="../slideLayouts/slideLayout178.xml"/><Relationship Id="rId16" Type="http://schemas.openxmlformats.org/officeDocument/2006/relationships/slideLayout" Target="../slideLayouts/slideLayout179.xml"/><Relationship Id="rId17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81.xml"/><Relationship Id="rId7" Type="http://schemas.openxmlformats.org/officeDocument/2006/relationships/slideLayout" Target="../slideLayouts/slideLayout182.xml"/><Relationship Id="rId8" Type="http://schemas.openxmlformats.org/officeDocument/2006/relationships/slideLayout" Target="../slideLayouts/slideLayout183.xml"/><Relationship Id="rId9" Type="http://schemas.openxmlformats.org/officeDocument/2006/relationships/slideLayout" Target="../slideLayouts/slideLayout184.xml"/><Relationship Id="rId10" Type="http://schemas.openxmlformats.org/officeDocument/2006/relationships/slideLayout" Target="../slideLayouts/slideLayout185.xml"/><Relationship Id="rId11" Type="http://schemas.openxmlformats.org/officeDocument/2006/relationships/slideLayout" Target="../slideLayouts/slideLayout186.xml"/><Relationship Id="rId12" Type="http://schemas.openxmlformats.org/officeDocument/2006/relationships/slideLayout" Target="../slideLayouts/slideLayout187.xml"/><Relationship Id="rId13" Type="http://schemas.openxmlformats.org/officeDocument/2006/relationships/slideLayout" Target="../slideLayouts/slideLayout188.xml"/><Relationship Id="rId14" Type="http://schemas.openxmlformats.org/officeDocument/2006/relationships/slideLayout" Target="../slideLayouts/slideLayout189.xml"/><Relationship Id="rId15" Type="http://schemas.openxmlformats.org/officeDocument/2006/relationships/slideLayout" Target="../slideLayouts/slideLayout190.xml"/><Relationship Id="rId16" Type="http://schemas.openxmlformats.org/officeDocument/2006/relationships/slideLayout" Target="../slideLayouts/slideLayout191.xml"/><Relationship Id="rId17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16CCB-1BA2-4D4D-826E-4A75041CA1A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6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8" descr="wireframeOverlay-Content.png"/>
          <p:cNvPicPr/>
          <p:nvPr/>
        </p:nvPicPr>
        <p:blipFill>
          <a:blip r:embed="rId5"/>
          <a:stretch/>
        </p:blipFill>
        <p:spPr>
          <a:xfrm>
            <a:off x="179280" y="1179360"/>
            <a:ext cx="8786880" cy="1441440"/>
          </a:xfrm>
          <a:prstGeom prst="rect">
            <a:avLst/>
          </a:prstGeom>
          <a:ln w="0">
            <a:noFill/>
          </a:ln>
        </p:spPr>
      </p:pic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8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9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30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CE2E4-359E-4204-92F4-8478940CBAA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8" descr="wireframeOverlay-PCVertical.png"/>
          <p:cNvPicPr/>
          <p:nvPr/>
        </p:nvPicPr>
        <p:blipFill>
          <a:blip r:embed="rId5"/>
          <a:srcRect l="0" t="0" r="0" b="-123316"/>
          <a:stretch/>
        </p:blipFill>
        <p:spPr>
          <a:xfrm>
            <a:off x="182520" y="1179360"/>
            <a:ext cx="5133960" cy="5275440"/>
          </a:xfrm>
          <a:prstGeom prst="rect">
            <a:avLst/>
          </a:prstGeom>
          <a:ln w="0">
            <a:noFill/>
          </a:ln>
        </p:spPr>
      </p:pic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31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32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sp>
        <p:nvSpPr>
          <p:cNvPr id="485" name="Rectangle 8"/>
          <p:cNvSpPr/>
          <p:nvPr/>
        </p:nvSpPr>
        <p:spPr>
          <a:xfrm>
            <a:off x="182520" y="3281400"/>
            <a:ext cx="8788320" cy="3174840"/>
          </a:xfrm>
          <a:prstGeom prst="rect">
            <a:avLst/>
          </a:prstGeom>
          <a:gradFill rotWithShape="0">
            <a:gsLst>
              <a:gs pos="0">
                <a:srgbClr val="76b6f2"/>
              </a:gs>
              <a:gs pos="100000">
                <a:srgbClr val="263b8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 type="dt" idx="33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 type="ftr" idx="34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6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8" descr="wireframeOverlay-PCVertical.png"/>
          <p:cNvPicPr/>
          <p:nvPr/>
        </p:nvPicPr>
        <p:blipFill>
          <a:blip r:embed="rId5"/>
          <a:srcRect l="0" t="0" r="0" b="-123316"/>
          <a:stretch/>
        </p:blipFill>
        <p:spPr>
          <a:xfrm>
            <a:off x="3835440" y="1179360"/>
            <a:ext cx="5133960" cy="5275440"/>
          </a:xfrm>
          <a:prstGeom prst="rect">
            <a:avLst/>
          </a:prstGeom>
          <a:ln w="0">
            <a:noFill/>
          </a:ln>
        </p:spPr>
      </p:pic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 type="dt" idx="35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 type="ftr" idx="36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 type="sldNum" idx="37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E4A9C-3DF8-436B-90B3-D0AF2514D0F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6"/>
    <p:sldLayoutId id="2147483806" r:id="rId7"/>
    <p:sldLayoutId id="2147483807" r:id="rId8"/>
    <p:sldLayoutId id="2147483808" r:id="rId9"/>
    <p:sldLayoutId id="2147483809" r:id="rId10"/>
    <p:sldLayoutId id="2147483810" r:id="rId11"/>
    <p:sldLayoutId id="2147483811" r:id="rId12"/>
    <p:sldLayoutId id="2147483812" r:id="rId13"/>
    <p:sldLayoutId id="2147483813" r:id="rId14"/>
    <p:sldLayoutId id="2147483814" r:id="rId15"/>
    <p:sldLayoutId id="2147483815" r:id="rId16"/>
    <p:sldLayoutId id="2147483816" r:id="rId17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0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8" descr="wireframeOverlay-Content.png"/>
          <p:cNvPicPr/>
          <p:nvPr/>
        </p:nvPicPr>
        <p:blipFill>
          <a:blip r:embed="rId5"/>
          <a:stretch/>
        </p:blipFill>
        <p:spPr>
          <a:xfrm>
            <a:off x="179280" y="1179360"/>
            <a:ext cx="8786880" cy="1441440"/>
          </a:xfrm>
          <a:prstGeom prst="rect">
            <a:avLst/>
          </a:prstGeom>
          <a:ln w="0">
            <a:noFill/>
          </a:ln>
        </p:spPr>
      </p:pic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 type="dt" idx="38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 type="ftr" idx="39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 type="sldNum" idx="40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4AA97-F546-4AD1-B16C-3C837CF5165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6"/>
    <p:sldLayoutId id="2147483819" r:id="rId7"/>
    <p:sldLayoutId id="2147483820" r:id="rId8"/>
    <p:sldLayoutId id="2147483821" r:id="rId9"/>
    <p:sldLayoutId id="2147483822" r:id="rId10"/>
    <p:sldLayoutId id="2147483823" r:id="rId11"/>
    <p:sldLayoutId id="2147483824" r:id="rId12"/>
    <p:sldLayoutId id="2147483825" r:id="rId13"/>
    <p:sldLayoutId id="2147483826" r:id="rId14"/>
    <p:sldLayoutId id="2147483827" r:id="rId15"/>
    <p:sldLayoutId id="2147483828" r:id="rId16"/>
    <p:sldLayoutId id="2147483829" r:id="rId17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4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8" descr="wireframeOverlay-VerticalTC.png"/>
          <p:cNvPicPr/>
          <p:nvPr/>
        </p:nvPicPr>
        <p:blipFill>
          <a:blip r:embed="rId5"/>
          <a:srcRect l="0" t="-93643" r="0" b="0"/>
          <a:stretch/>
        </p:blipFill>
        <p:spPr>
          <a:xfrm>
            <a:off x="7445520" y="1177920"/>
            <a:ext cx="1523880" cy="5275440"/>
          </a:xfrm>
          <a:prstGeom prst="rect">
            <a:avLst/>
          </a:prstGeom>
          <a:ln w="0">
            <a:noFill/>
          </a:ln>
        </p:spPr>
      </p:pic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dt" idx="41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ftr" idx="42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sldNum" idx="43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725D0-BDA8-48AA-9625-DF5A8ABB0DF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6"/>
    <p:sldLayoutId id="2147483832" r:id="rId7"/>
    <p:sldLayoutId id="2147483833" r:id="rId8"/>
    <p:sldLayoutId id="2147483834" r:id="rId9"/>
    <p:sldLayoutId id="2147483835" r:id="rId10"/>
    <p:sldLayoutId id="2147483836" r:id="rId11"/>
    <p:sldLayoutId id="2147483837" r:id="rId12"/>
    <p:sldLayoutId id="2147483838" r:id="rId13"/>
    <p:sldLayoutId id="2147483839" r:id="rId14"/>
    <p:sldLayoutId id="2147483840" r:id="rId15"/>
    <p:sldLayoutId id="2147483841" r:id="rId16"/>
    <p:sldLayoutId id="2147483842" r:id="rId17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8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659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sp>
        <p:nvSpPr>
          <p:cNvPr id="660" name="Rectangle 8"/>
          <p:cNvSpPr/>
          <p:nvPr/>
        </p:nvSpPr>
        <p:spPr>
          <a:xfrm>
            <a:off x="182520" y="1179360"/>
            <a:ext cx="8788320" cy="5276880"/>
          </a:xfrm>
          <a:prstGeom prst="rect">
            <a:avLst/>
          </a:prstGeom>
          <a:gradFill rotWithShape="0">
            <a:gsLst>
              <a:gs pos="0">
                <a:srgbClr val="76b6f2"/>
              </a:gs>
              <a:gs pos="100000">
                <a:srgbClr val="263b8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61" name="Picture 10" descr="DirectionalButtons-LeftOnlyOnly.png"/>
          <p:cNvPicPr/>
          <p:nvPr/>
        </p:nvPicPr>
        <p:blipFill>
          <a:blip r:embed="rId5"/>
          <a:stretch/>
        </p:blipFill>
        <p:spPr>
          <a:xfrm>
            <a:off x="7837560" y="538200"/>
            <a:ext cx="752400" cy="352440"/>
          </a:xfrm>
          <a:prstGeom prst="rect">
            <a:avLst/>
          </a:prstGeom>
          <a:ln w="0">
            <a:noFill/>
          </a:ln>
        </p:spPr>
      </p:pic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 type="dt" idx="44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 type="ftr" idx="45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 type="sldNum" idx="46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AD0A0-F064-4464-A6A7-4E3777C3110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6"/>
    <p:sldLayoutId id="2147483845" r:id="rId7"/>
    <p:sldLayoutId id="2147483846" r:id="rId8"/>
    <p:sldLayoutId id="2147483847" r:id="rId9"/>
    <p:sldLayoutId id="2147483848" r:id="rId10"/>
    <p:sldLayoutId id="2147483849" r:id="rId11"/>
    <p:sldLayoutId id="2147483850" r:id="rId12"/>
    <p:sldLayoutId id="2147483851" r:id="rId13"/>
    <p:sldLayoutId id="2147483852" r:id="rId14"/>
    <p:sldLayoutId id="2147483853" r:id="rId15"/>
    <p:sldLayoutId id="2147483854" r:id="rId16"/>
    <p:sldLayoutId id="2147483855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wireframeOverlay-Home.png"/>
          <p:cNvPicPr/>
          <p:nvPr/>
        </p:nvPicPr>
        <p:blipFill>
          <a:blip r:embed="rId5"/>
          <a:srcRect l="0" t="-93970" r="0" b="0"/>
          <a:stretch/>
        </p:blipFill>
        <p:spPr>
          <a:xfrm>
            <a:off x="179280" y="1182600"/>
            <a:ext cx="8786880" cy="52768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0" descr="DirectionalButtons-RightOnly.png"/>
          <p:cNvPicPr/>
          <p:nvPr/>
        </p:nvPicPr>
        <p:blipFill>
          <a:blip r:embed="rId6"/>
          <a:stretch/>
        </p:blipFill>
        <p:spPr>
          <a:xfrm>
            <a:off x="7821720" y="533520"/>
            <a:ext cx="752400" cy="3524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26F4B-38C2-4278-A563-EA104DA421F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wireframeOverlay-Content.png"/>
          <p:cNvPicPr/>
          <p:nvPr/>
        </p:nvPicPr>
        <p:blipFill>
          <a:blip r:embed="rId5"/>
          <a:stretch/>
        </p:blipFill>
        <p:spPr>
          <a:xfrm>
            <a:off x="179280" y="1179360"/>
            <a:ext cx="8786880" cy="14414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C1D3B-2E28-43C1-8D13-4175A19ED42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wireframeOverlay-TCFull.png"/>
          <p:cNvPicPr/>
          <p:nvPr/>
        </p:nvPicPr>
        <p:blipFill>
          <a:blip r:embed="rId5"/>
          <a:srcRect l="-198725" t="0" r="0" b="0"/>
          <a:stretch/>
        </p:blipFill>
        <p:spPr>
          <a:xfrm>
            <a:off x="177840" y="1179360"/>
            <a:ext cx="8788320" cy="527688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4D275-C765-44A0-B9B4-5A3308F6D00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8" descr="wireframeOverlay-SectionH.png"/>
          <p:cNvPicPr/>
          <p:nvPr/>
        </p:nvPicPr>
        <p:blipFill>
          <a:blip r:embed="rId5"/>
          <a:srcRect l="0" t="0" r="-91873" b="0"/>
          <a:stretch/>
        </p:blipFill>
        <p:spPr>
          <a:xfrm>
            <a:off x="182520" y="1179360"/>
            <a:ext cx="8785440" cy="527688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8F15A-685F-4E30-A0CA-8A6AFC686C1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8" descr="wireframeOverlay-Content.png"/>
          <p:cNvPicPr/>
          <p:nvPr/>
        </p:nvPicPr>
        <p:blipFill>
          <a:blip r:embed="rId5"/>
          <a:stretch/>
        </p:blipFill>
        <p:spPr>
          <a:xfrm>
            <a:off x="179280" y="1179360"/>
            <a:ext cx="8786880" cy="144144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1936C-25E0-4873-9A96-C4A00F9C558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8" descr="wireframeOverlay-Content.png"/>
          <p:cNvPicPr/>
          <p:nvPr/>
        </p:nvPicPr>
        <p:blipFill>
          <a:blip r:embed="rId5"/>
          <a:stretch/>
        </p:blipFill>
        <p:spPr>
          <a:xfrm>
            <a:off x="179280" y="1179360"/>
            <a:ext cx="8786880" cy="144144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647DA-5D65-49C3-96F4-BC201C7F43B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8" descr="wireframeOverlay-Content.png"/>
          <p:cNvPicPr/>
          <p:nvPr/>
        </p:nvPicPr>
        <p:blipFill>
          <a:blip r:embed="rId5"/>
          <a:stretch/>
        </p:blipFill>
        <p:spPr>
          <a:xfrm>
            <a:off x="179280" y="1179360"/>
            <a:ext cx="8786880" cy="144144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16247-D3F5-4022-96CE-4166C72D110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8" descr="wireframeOverlay-ContentCap.png"/>
          <p:cNvPicPr/>
          <p:nvPr/>
        </p:nvPicPr>
        <p:blipFill>
          <a:blip r:embed="rId5"/>
          <a:srcRect l="0" t="0" r="0" b="-135873"/>
          <a:stretch/>
        </p:blipFill>
        <p:spPr>
          <a:xfrm>
            <a:off x="182520" y="1179360"/>
            <a:ext cx="4229280" cy="5274000"/>
          </a:xfrm>
          <a:prstGeom prst="rect">
            <a:avLst/>
          </a:prstGeom>
          <a:ln w="0">
            <a:noFill/>
          </a:ln>
        </p:spPr>
      </p:pic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25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26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27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CA22D-C116-4875-A627-2FF8DCF203D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wmf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oin.wav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17600" y="2168640"/>
            <a:ext cx="8307360" cy="161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d654"/>
                </a:solidFill>
                <a:latin typeface="Calibri"/>
              </a:rPr>
              <a:t>Pronoms Personnel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 type="subTitle"/>
          </p:nvPr>
        </p:nvSpPr>
        <p:spPr>
          <a:xfrm>
            <a:off x="417600" y="3809520"/>
            <a:ext cx="8307360" cy="75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294920" y="2286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d654"/>
                </a:solidFill>
                <a:latin typeface="Calibri"/>
              </a:rPr>
              <a:t>Pronoms</a:t>
            </a:r>
            <a:r>
              <a:rPr b="0" i="1" lang="en-US" sz="3600" spc="-1" strike="noStrike">
                <a:solidFill>
                  <a:srgbClr val="ffd654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ffd654"/>
                </a:solidFill>
                <a:latin typeface="Calibri"/>
              </a:rPr>
              <a:t>Personnel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2" name=""/>
          <p:cNvSpPr txBox="1"/>
          <p:nvPr/>
        </p:nvSpPr>
        <p:spPr>
          <a:xfrm>
            <a:off x="457200" y="2209680"/>
            <a:ext cx="8229600" cy="36576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000000"/>
                </a:solidFill>
                <a:latin typeface="Calibri"/>
              </a:rPr>
              <a:t>Pauline est ma meilleure amie. Je parle tous les jours à Pauline et souvent je pose beaucoup de questions à Pauline. Je ne mens jamais à Pauline. Souvent le weekend, je rends visite à Pauline et si je ne rends pas visite à Pauline, je téléphone à Pauline tout le temps.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000000"/>
                </a:solidFill>
                <a:latin typeface="Calibri"/>
              </a:rPr>
              <a:t>Pour son anniversaire, j’achète un cadeau à Pauline et j’offre ce cadeau à Pauline.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3" name="Text Box 12"/>
          <p:cNvSpPr/>
          <p:nvPr/>
        </p:nvSpPr>
        <p:spPr>
          <a:xfrm>
            <a:off x="-1019520" y="1219320"/>
            <a:ext cx="1188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Lisons cette histoire et dites ce qui ne va pa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20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2000"/>
                                        <p:tgtEl>
                                          <p:spTgt spid="7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2000"/>
                                        <p:tgtEl>
                                          <p:spTgt spid="7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1294920" y="2286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d654"/>
                </a:solidFill>
                <a:latin typeface="Calibri"/>
              </a:rPr>
              <a:t>Pronoms</a:t>
            </a:r>
            <a:r>
              <a:rPr b="0" i="1" lang="en-US" sz="3600" spc="-1" strike="noStrike">
                <a:solidFill>
                  <a:srgbClr val="ffd654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ffd654"/>
                </a:solidFill>
                <a:latin typeface="Calibri"/>
              </a:rPr>
              <a:t>Personnel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5" name=""/>
          <p:cNvSpPr txBox="1"/>
          <p:nvPr/>
        </p:nvSpPr>
        <p:spPr>
          <a:xfrm>
            <a:off x="457200" y="2209680"/>
            <a:ext cx="8229600" cy="36576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Oui, il y a beaucoup de répétitions du même nom « Pauline ».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Pour éviter ces répétitions, on va utiliser un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PRONOM PERSONNEL .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6" name="Text Box 12"/>
          <p:cNvSpPr/>
          <p:nvPr/>
        </p:nvSpPr>
        <p:spPr>
          <a:xfrm>
            <a:off x="-1019520" y="1219320"/>
            <a:ext cx="1188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Lisons cette histoire et dites ce qui ne va pa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20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2000"/>
                                        <p:tgtEl>
                                          <p:spTgt spid="7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2000"/>
                                        <p:tgtEl>
                                          <p:spTgt spid="7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2000"/>
                                        <p:tgtEl>
                                          <p:spTgt spid="7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1294920" y="2286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d654"/>
                </a:solidFill>
                <a:latin typeface="Calibri"/>
              </a:rPr>
              <a:t>Pronoms</a:t>
            </a:r>
            <a:r>
              <a:rPr b="0" i="1" lang="en-US" sz="3600" spc="-1" strike="noStrike">
                <a:solidFill>
                  <a:srgbClr val="ffd654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ffd654"/>
                </a:solidFill>
                <a:latin typeface="Calibri"/>
              </a:rPr>
              <a:t>Personnel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8" name=""/>
          <p:cNvSpPr txBox="1"/>
          <p:nvPr/>
        </p:nvSpPr>
        <p:spPr>
          <a:xfrm>
            <a:off x="457200" y="220932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404040"/>
                </a:solidFill>
                <a:latin typeface="Calibri"/>
              </a:rPr>
              <a:t>Remplace un nom de </a:t>
            </a:r>
            <a:r>
              <a:rPr b="1" lang="fr-FR" sz="3600" spc="-1" strike="noStrike">
                <a:solidFill>
                  <a:srgbClr val="404040"/>
                </a:solidFill>
                <a:latin typeface="Calibri"/>
              </a:rPr>
              <a:t>personne</a:t>
            </a:r>
            <a:r>
              <a:rPr b="0" lang="fr-FR" sz="3600" spc="-1" strike="noStrike">
                <a:solidFill>
                  <a:srgbClr val="404040"/>
                </a:solidFill>
                <a:latin typeface="Calibri"/>
              </a:rPr>
              <a:t> introduit par </a:t>
            </a:r>
            <a:r>
              <a:rPr b="1" lang="fr-FR" sz="3600" spc="-1" strike="noStrike">
                <a:solidFill>
                  <a:srgbClr val="404040"/>
                </a:solidFill>
                <a:latin typeface="Calibri"/>
              </a:rPr>
              <a:t>à</a:t>
            </a:r>
            <a:r>
              <a:rPr b="0" lang="fr-FR" sz="3600" spc="-1" strike="noStrike">
                <a:solidFill>
                  <a:srgbClr val="404040"/>
                </a:solidFill>
                <a:latin typeface="Calibri"/>
              </a:rPr>
              <a:t> or (</a:t>
            </a:r>
            <a:r>
              <a:rPr b="1" lang="fr-FR" sz="3600" spc="-1" strike="noStrike">
                <a:solidFill>
                  <a:srgbClr val="404040"/>
                </a:solidFill>
                <a:latin typeface="Calibri"/>
              </a:rPr>
              <a:t>pour)</a:t>
            </a:r>
            <a:endParaRPr b="0" lang="en-US" sz="3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9" name="Rectangle 6"/>
          <p:cNvSpPr/>
          <p:nvPr/>
        </p:nvSpPr>
        <p:spPr>
          <a:xfrm>
            <a:off x="457200" y="3657600"/>
            <a:ext cx="76960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d2d2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Ce nom représente toujours une person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0" name="Text Box 12"/>
          <p:cNvSpPr/>
          <p:nvPr/>
        </p:nvSpPr>
        <p:spPr>
          <a:xfrm>
            <a:off x="2709720" y="1371600"/>
            <a:ext cx="359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Objet indir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61" name="Picture 9" descr="C:\Documents and Settings\vgrebert\Desktop\cartoon-people-figure[1].gif"/>
          <p:cNvPicPr/>
          <p:nvPr/>
        </p:nvPicPr>
        <p:blipFill>
          <a:blip r:embed="rId2"/>
          <a:stretch/>
        </p:blipFill>
        <p:spPr>
          <a:xfrm>
            <a:off x="3352680" y="4267080"/>
            <a:ext cx="2629080" cy="2381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2000"/>
                                        <p:tgtEl>
                                          <p:spTgt spid="7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20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1294920" y="2286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d654"/>
                </a:solidFill>
                <a:latin typeface="Calibri"/>
              </a:rPr>
              <a:t>Pronoms</a:t>
            </a:r>
            <a:r>
              <a:rPr b="0" i="1" lang="en-US" sz="3600" spc="-1" strike="noStrike">
                <a:solidFill>
                  <a:srgbClr val="ffd654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ffd654"/>
                </a:solidFill>
                <a:latin typeface="Calibri"/>
              </a:rPr>
              <a:t>Personnel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3" name=""/>
          <p:cNvSpPr txBox="1"/>
          <p:nvPr/>
        </p:nvSpPr>
        <p:spPr>
          <a:xfrm>
            <a:off x="1600200" y="2666880"/>
            <a:ext cx="220968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404040"/>
                </a:solidFill>
                <a:latin typeface="Calibri"/>
              </a:rPr>
              <a:t>À</a:t>
            </a:r>
            <a:r>
              <a:rPr b="1" lang="fr-FR" sz="4400" spc="-1" strike="noStrike">
                <a:solidFill>
                  <a:srgbClr val="404040"/>
                </a:solidFill>
                <a:latin typeface="Calibri"/>
              </a:rPr>
              <a:t>   </a:t>
            </a:r>
            <a:r>
              <a:rPr b="1" lang="fr-FR" sz="6000" spc="-1" strike="noStrike">
                <a:solidFill>
                  <a:srgbClr val="404040"/>
                </a:solidFill>
                <a:latin typeface="Calibri"/>
              </a:rPr>
              <a:t>+</a:t>
            </a:r>
            <a:r>
              <a:rPr b="0" lang="fr-FR" sz="2000" spc="-1" strike="noStrike">
                <a:solidFill>
                  <a:srgbClr val="40404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4" name="Rectangle 6"/>
          <p:cNvSpPr/>
          <p:nvPr/>
        </p:nvSpPr>
        <p:spPr>
          <a:xfrm>
            <a:off x="2286000" y="4876920"/>
            <a:ext cx="61722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d2d2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r>
              <a:rPr b="0" lang="fr-FR" sz="3200" spc="-1" strike="noStrike" u="sng">
                <a:solidFill>
                  <a:srgbClr val="000000"/>
                </a:solidFill>
                <a:uFillTx/>
                <a:latin typeface="Tahoma"/>
              </a:rPr>
              <a:t>Ce nom représente toujours une person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5" name="Text Box 12"/>
          <p:cNvSpPr/>
          <p:nvPr/>
        </p:nvSpPr>
        <p:spPr>
          <a:xfrm>
            <a:off x="2709720" y="1371600"/>
            <a:ext cx="359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Objet indir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66" name="Picture 9" descr="C:\Documents and Settings\vgrebert\Desktop\cartoon-people-figure[1].gif"/>
          <p:cNvPicPr/>
          <p:nvPr/>
        </p:nvPicPr>
        <p:blipFill>
          <a:blip r:embed="rId2"/>
          <a:stretch/>
        </p:blipFill>
        <p:spPr>
          <a:xfrm>
            <a:off x="3962520" y="2209680"/>
            <a:ext cx="2628720" cy="2381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2000"/>
                                        <p:tgtEl>
                                          <p:spTgt spid="7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20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3" dur="20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7" dur="2000" fill="hold"/>
                                        <p:tgtEl>
                                          <p:spTgt spid="7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2057400" y="304920"/>
            <a:ext cx="50292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d654"/>
                </a:solidFill>
                <a:latin typeface="Calibri"/>
              </a:rPr>
              <a:t>Pronoms Personnels</a:t>
            </a:r>
            <a:r>
              <a:rPr b="0" i="1" lang="en-US" sz="3600" spc="-1" strike="noStrike">
                <a:solidFill>
                  <a:srgbClr val="ffd654"/>
                </a:solidFill>
                <a:latin typeface="Calibri"/>
              </a:rPr>
              <a:t> </a:t>
            </a:r>
            <a:br>
              <a:rPr sz="3600"/>
            </a:br>
            <a:r>
              <a:rPr b="0" i="1" lang="en-US" sz="3600" spc="-1" strike="noStrike">
                <a:solidFill>
                  <a:srgbClr val="ffd654"/>
                </a:solidFill>
                <a:latin typeface="Calibri"/>
              </a:rPr>
              <a:t>objet indirec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8" name=""/>
          <p:cNvSpPr txBox="1"/>
          <p:nvPr/>
        </p:nvSpPr>
        <p:spPr>
          <a:xfrm>
            <a:off x="1142640" y="1752120"/>
            <a:ext cx="2438280" cy="66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404040"/>
                </a:solidFill>
                <a:latin typeface="Calibri"/>
              </a:rPr>
              <a:t>Je parle</a:t>
            </a:r>
            <a:endParaRPr b="0" lang="en-US" sz="3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9" name="Text Box 4"/>
          <p:cNvSpPr/>
          <p:nvPr/>
        </p:nvSpPr>
        <p:spPr>
          <a:xfrm>
            <a:off x="762120" y="312408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je _______ par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0" name="Text Box 27"/>
          <p:cNvSpPr/>
          <p:nvPr/>
        </p:nvSpPr>
        <p:spPr>
          <a:xfrm>
            <a:off x="2057400" y="3048120"/>
            <a:ext cx="838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lui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1" name="Text Box 30"/>
          <p:cNvSpPr/>
          <p:nvPr/>
        </p:nvSpPr>
        <p:spPr>
          <a:xfrm>
            <a:off x="4038480" y="1752480"/>
            <a:ext cx="3581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à ma mère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7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7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10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7" dur="500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"/>
          <p:cNvSpPr txBox="1"/>
          <p:nvPr/>
        </p:nvSpPr>
        <p:spPr>
          <a:xfrm>
            <a:off x="456840" y="1828440"/>
            <a:ext cx="3809880" cy="66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404040"/>
                </a:solidFill>
                <a:latin typeface="Calibri"/>
              </a:rPr>
              <a:t>J’ai téléphoné</a:t>
            </a:r>
            <a:endParaRPr b="0" lang="en-US" sz="3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73" name="Text Box 4"/>
          <p:cNvSpPr/>
          <p:nvPr/>
        </p:nvSpPr>
        <p:spPr>
          <a:xfrm>
            <a:off x="762120" y="312408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je _______  ai téléphoné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4" name="Text Box 5"/>
          <p:cNvSpPr/>
          <p:nvPr/>
        </p:nvSpPr>
        <p:spPr>
          <a:xfrm>
            <a:off x="1752480" y="30481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leur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5" name="Text Box 6"/>
          <p:cNvSpPr/>
          <p:nvPr/>
        </p:nvSpPr>
        <p:spPr>
          <a:xfrm>
            <a:off x="3657600" y="1828800"/>
            <a:ext cx="4495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à Emilie et Thoma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6" name="Rectangle 7"/>
          <p:cNvSpPr/>
          <p:nvPr/>
        </p:nvSpPr>
        <p:spPr>
          <a:xfrm>
            <a:off x="2057400" y="380880"/>
            <a:ext cx="5943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3b86"/>
                </a:solidFill>
                <a:latin typeface="Tahoma"/>
              </a:rPr>
              <a:t>Pronoms Personnels</a:t>
            </a:r>
            <a:r>
              <a:rPr b="0" i="1" lang="en-US" sz="3600" spc="-1" strike="noStrike">
                <a:solidFill>
                  <a:srgbClr val="263b86"/>
                </a:solidFill>
                <a:latin typeface="Tahoma"/>
              </a:rPr>
              <a:t> </a:t>
            </a:r>
            <a:br>
              <a:rPr sz="3600"/>
            </a:br>
            <a:r>
              <a:rPr b="0" i="1" lang="en-US" sz="3600" spc="-1" strike="noStrike">
                <a:solidFill>
                  <a:srgbClr val="263b86"/>
                </a:solidFill>
                <a:latin typeface="Tahoma"/>
              </a:rPr>
              <a:t>objet indirec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7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1000" fill="hold"/>
                                        <p:tgtEl>
                                          <p:spTgt spid="7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10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10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10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9" dur="500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761760" y="1143000"/>
            <a:ext cx="556236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d654"/>
                </a:solidFill>
                <a:latin typeface="Calibri"/>
              </a:rPr>
              <a:t>Pronoms Personnels</a:t>
            </a:r>
            <a:r>
              <a:rPr b="0" i="1" lang="en-US" sz="3600" spc="-1" strike="noStrike">
                <a:solidFill>
                  <a:srgbClr val="ffd654"/>
                </a:solidFill>
                <a:latin typeface="Calibri"/>
              </a:rPr>
              <a:t> </a:t>
            </a:r>
            <a:br>
              <a:rPr sz="3600"/>
            </a:br>
            <a:r>
              <a:rPr b="0" i="1" lang="en-US" sz="3600" spc="-1" strike="noStrike">
                <a:solidFill>
                  <a:srgbClr val="ffd654"/>
                </a:solidFill>
                <a:latin typeface="Calibri"/>
              </a:rPr>
              <a:t>objet indirec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8" name="Rectangle 8"/>
          <p:cNvSpPr/>
          <p:nvPr/>
        </p:nvSpPr>
        <p:spPr>
          <a:xfrm>
            <a:off x="1752480" y="2819520"/>
            <a:ext cx="59436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U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OU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U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U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79" name="Picture 5" descr="C:\Documents and Settings\vgrebert\Desktop\cartoon-people-figure[1].gif"/>
          <p:cNvPicPr/>
          <p:nvPr/>
        </p:nvPicPr>
        <p:blipFill>
          <a:blip r:embed="rId2"/>
          <a:stretch/>
        </p:blipFill>
        <p:spPr>
          <a:xfrm>
            <a:off x="6705720" y="758880"/>
            <a:ext cx="1923840" cy="174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533160" y="1066680"/>
            <a:ext cx="647676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d654"/>
                </a:solidFill>
                <a:latin typeface="Calibri"/>
              </a:rPr>
              <a:t>Verbes qui demandent des  pronoms </a:t>
            </a:r>
            <a:r>
              <a:rPr b="0" i="1" lang="en-US" sz="3600" spc="-1" strike="noStrike">
                <a:solidFill>
                  <a:srgbClr val="ffd654"/>
                </a:solidFill>
                <a:latin typeface="Calibri"/>
              </a:rPr>
              <a:t>objet indirect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1" name="Rectangle 8"/>
          <p:cNvSpPr/>
          <p:nvPr/>
        </p:nvSpPr>
        <p:spPr>
          <a:xfrm>
            <a:off x="609480" y="2514600"/>
            <a:ext cx="3810240" cy="38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emander à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onner à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Envoyer à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ontrer à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Parler à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82" name="Picture 5" descr="C:\Documents and Settings\vgrebert\Desktop\cartoon-people-figure[1].gif"/>
          <p:cNvPicPr/>
          <p:nvPr/>
        </p:nvPicPr>
        <p:blipFill>
          <a:blip r:embed="rId2"/>
          <a:stretch/>
        </p:blipFill>
        <p:spPr>
          <a:xfrm>
            <a:off x="6858000" y="1066680"/>
            <a:ext cx="1924200" cy="1743120"/>
          </a:xfrm>
          <a:prstGeom prst="rect">
            <a:avLst/>
          </a:prstGeom>
          <a:ln w="0">
            <a:noFill/>
          </a:ln>
        </p:spPr>
      </p:pic>
      <p:sp>
        <p:nvSpPr>
          <p:cNvPr id="783" name="TextBox 4"/>
          <p:cNvSpPr/>
          <p:nvPr/>
        </p:nvSpPr>
        <p:spPr>
          <a:xfrm>
            <a:off x="3962520" y="2514600"/>
            <a:ext cx="3440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To ask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To give to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To send to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To show to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To speak to 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8" dur="500"/>
                                        <p:tgtEl>
                                          <p:spTgt spid="7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7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7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7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8" dur="500"/>
                                        <p:tgtEl>
                                          <p:spTgt spid="7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3" dur="500"/>
                                        <p:tgtEl>
                                          <p:spTgt spid="7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8" dur="500"/>
                                        <p:tgtEl>
                                          <p:spTgt spid="7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3" dur="500"/>
                                        <p:tgtEl>
                                          <p:spTgt spid="7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8" dur="500"/>
                                        <p:tgtEl>
                                          <p:spTgt spid="7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3" dur="500"/>
                                        <p:tgtEl>
                                          <p:spTgt spid="7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8" dur="500"/>
                                        <p:tgtEl>
                                          <p:spTgt spid="7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64771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d654"/>
                </a:solidFill>
                <a:latin typeface="Calibri"/>
              </a:rPr>
              <a:t>Verbes qui demandent des  pronoms </a:t>
            </a:r>
            <a:r>
              <a:rPr b="0" i="1" lang="en-US" sz="3600" spc="-1" strike="noStrike">
                <a:solidFill>
                  <a:srgbClr val="ffd654"/>
                </a:solidFill>
                <a:latin typeface="Calibri"/>
              </a:rPr>
              <a:t>objet indirect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5" name="Rectangle 8"/>
          <p:cNvSpPr/>
          <p:nvPr/>
        </p:nvSpPr>
        <p:spPr>
          <a:xfrm>
            <a:off x="380880" y="2819520"/>
            <a:ext cx="464832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Offrir à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Poser une question à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Prêter à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éléphoner à  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86" name="Picture 5" descr="C:\Documents and Settings\vgrebert\Desktop\cartoon-people-figure[1].gif"/>
          <p:cNvPicPr/>
          <p:nvPr/>
        </p:nvPicPr>
        <p:blipFill>
          <a:blip r:embed="rId2"/>
          <a:stretch/>
        </p:blipFill>
        <p:spPr>
          <a:xfrm>
            <a:off x="7219800" y="1371600"/>
            <a:ext cx="1924200" cy="1743120"/>
          </a:xfrm>
          <a:prstGeom prst="rect">
            <a:avLst/>
          </a:prstGeom>
          <a:ln w="0">
            <a:noFill/>
          </a:ln>
        </p:spPr>
      </p:pic>
      <p:sp>
        <p:nvSpPr>
          <p:cNvPr id="787" name="TextBox 4"/>
          <p:cNvSpPr/>
          <p:nvPr/>
        </p:nvSpPr>
        <p:spPr>
          <a:xfrm>
            <a:off x="4724280" y="2819520"/>
            <a:ext cx="3440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To offer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To ask a quest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To len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To phone, to cal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7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7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7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0" dur="500"/>
                                        <p:tgtEl>
                                          <p:spTgt spid="7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"/>
          <p:cNvSpPr txBox="1"/>
          <p:nvPr/>
        </p:nvSpPr>
        <p:spPr>
          <a:xfrm>
            <a:off x="380880" y="1218960"/>
            <a:ext cx="785016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404040"/>
                </a:solidFill>
                <a:latin typeface="Calibri"/>
              </a:rPr>
              <a:t>Les pronoms d’objet indirect </a:t>
            </a: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me</a:t>
            </a:r>
            <a:r>
              <a:rPr b="0" lang="en-US" sz="3600" spc="-1" strike="noStrike">
                <a:solidFill>
                  <a:srgbClr val="404040"/>
                </a:solidFill>
                <a:latin typeface="Calibri"/>
              </a:rPr>
              <a:t> et </a:t>
            </a: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te</a:t>
            </a:r>
            <a:r>
              <a:rPr b="0" lang="en-US" sz="3600" spc="-1" strike="noStrike">
                <a:solidFill>
                  <a:srgbClr val="404040"/>
                </a:solidFill>
                <a:latin typeface="Calibri"/>
              </a:rPr>
              <a:t> deviennent </a:t>
            </a: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m’ </a:t>
            </a:r>
            <a:r>
              <a:rPr b="0" lang="en-US" sz="3600" spc="-1" strike="noStrike">
                <a:solidFill>
                  <a:srgbClr val="404040"/>
                </a:solidFill>
                <a:latin typeface="Calibri"/>
              </a:rPr>
              <a:t>et </a:t>
            </a: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t’ </a:t>
            </a:r>
            <a:r>
              <a:rPr b="0" lang="en-US" sz="3600" spc="-1" strike="noStrike">
                <a:solidFill>
                  <a:srgbClr val="404040"/>
                </a:solidFill>
                <a:latin typeface="Calibri"/>
              </a:rPr>
              <a:t>devant un verbe dont la première lettre est une voyelle.</a:t>
            </a:r>
            <a:endParaRPr b="0" lang="en-US" sz="3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9" name="Footer Placeholder 3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ahoma"/>
              </a:rPr>
              <a:t>© and ® 2011 Vista Higher Learning, Inc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0" name="Slide Number Placeholder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6B.1-</a:t>
            </a:r>
            <a:fld id="{8AB7C398-52FC-483D-8D39-ECC311D0E209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91" name="Picture 2" descr=""/>
          <p:cNvPicPr/>
          <p:nvPr/>
        </p:nvPicPr>
        <p:blipFill>
          <a:blip r:embed="rId2"/>
          <a:stretch/>
        </p:blipFill>
        <p:spPr>
          <a:xfrm>
            <a:off x="1601640" y="3125880"/>
            <a:ext cx="5334120" cy="144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98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d654"/>
                </a:solidFill>
                <a:latin typeface="Calibri"/>
              </a:rPr>
              <a:t>Pronoms Personnel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 type="subTitle"/>
          </p:nvPr>
        </p:nvSpPr>
        <p:spPr>
          <a:xfrm>
            <a:off x="762120" y="175248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buClr>
                <a:srgbClr val="7f7f7f"/>
              </a:buClr>
              <a:buSzPct val="7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es pronoms personnels remplacent un nom de personne ou de chose. </a:t>
            </a:r>
            <a:endParaRPr b="0" lang="en-US" sz="4000" spc="-1" strike="noStrike">
              <a:solidFill>
                <a:srgbClr val="40404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7f7f7f"/>
              </a:buClr>
              <a:buSzPct val="7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a forme du pronom personnel est déterminée par la fonction du nom qu’il remplace.</a:t>
            </a:r>
            <a:endParaRPr b="0" lang="en-US" sz="40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714" name="Picture 5" descr="j0149481"/>
          <p:cNvPicPr/>
          <p:nvPr/>
        </p:nvPicPr>
        <p:blipFill>
          <a:blip r:embed="rId2"/>
          <a:stretch/>
        </p:blipFill>
        <p:spPr>
          <a:xfrm>
            <a:off x="7467480" y="380880"/>
            <a:ext cx="974880" cy="990720"/>
          </a:xfrm>
          <a:prstGeom prst="rect">
            <a:avLst/>
          </a:prstGeom>
          <a:ln w="0">
            <a:noFill/>
          </a:ln>
        </p:spPr>
      </p:pic>
      <p:pic>
        <p:nvPicPr>
          <p:cNvPr id="715" name="Picture 8" descr="MPj03142650000[1]"/>
          <p:cNvPicPr/>
          <p:nvPr/>
        </p:nvPicPr>
        <p:blipFill>
          <a:blip r:embed="rId3"/>
          <a:stretch/>
        </p:blipFill>
        <p:spPr>
          <a:xfrm>
            <a:off x="304920" y="304920"/>
            <a:ext cx="1295280" cy="1447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7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7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88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105ca4"/>
                </a:solidFill>
                <a:latin typeface="Calibri"/>
              </a:rPr>
              <a:t>Les Pronoms </a:t>
            </a:r>
            <a:r>
              <a:rPr b="0" i="1" lang="fr-FR" sz="3600" spc="-1" strike="noStrike">
                <a:solidFill>
                  <a:srgbClr val="105ca4"/>
                </a:solidFill>
                <a:latin typeface="Calibri"/>
              </a:rPr>
              <a:t>LUI </a:t>
            </a:r>
            <a:r>
              <a:rPr b="0" lang="fr-FR" sz="3600" spc="-1" strike="noStrike">
                <a:solidFill>
                  <a:srgbClr val="105ca4"/>
                </a:solidFill>
                <a:latin typeface="Calibri"/>
              </a:rPr>
              <a:t>et</a:t>
            </a:r>
            <a:r>
              <a:rPr b="0" i="1" lang="fr-FR" sz="3600" spc="-1" strike="noStrike">
                <a:solidFill>
                  <a:srgbClr val="105ca4"/>
                </a:solidFill>
                <a:latin typeface="Calibri"/>
              </a:rPr>
              <a:t> LEUR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3" name=""/>
          <p:cNvSpPr txBox="1"/>
          <p:nvPr/>
        </p:nvSpPr>
        <p:spPr>
          <a:xfrm>
            <a:off x="685440" y="1295280"/>
            <a:ext cx="8077320" cy="28195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105ca4"/>
                </a:solidFill>
                <a:latin typeface="Calibri"/>
              </a:rPr>
              <a:t>LUI/LEUR se placent devant le verbe conjugué au </a:t>
            </a:r>
            <a:r>
              <a:rPr b="0" i="1" lang="fr-FR" sz="4800" spc="-1" strike="noStrike">
                <a:solidFill>
                  <a:srgbClr val="105ca4"/>
                </a:solidFill>
                <a:latin typeface="Calibri"/>
              </a:rPr>
              <a:t>présent</a:t>
            </a:r>
            <a:r>
              <a:rPr b="0" lang="fr-FR" sz="4800" spc="-1" strike="noStrike">
                <a:solidFill>
                  <a:srgbClr val="105ca4"/>
                </a:solidFill>
                <a:latin typeface="Calibri"/>
              </a:rPr>
              <a:t> ou </a:t>
            </a:r>
            <a:r>
              <a:rPr b="0" i="1" lang="fr-FR" sz="4800" spc="-1" strike="noStrike">
                <a:solidFill>
                  <a:srgbClr val="105ca4"/>
                </a:solidFill>
                <a:latin typeface="Calibri"/>
              </a:rPr>
              <a:t>passé composé</a:t>
            </a:r>
            <a:r>
              <a:rPr b="0" lang="fr-FR" sz="4800" spc="-1" strike="noStrike">
                <a:solidFill>
                  <a:srgbClr val="105ca4"/>
                </a:solidFill>
                <a:latin typeface="Calibri"/>
              </a:rPr>
              <a:t>!</a:t>
            </a:r>
            <a:endParaRPr b="0" lang="en-US" sz="48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794" name="Picture 2" descr=""/>
          <p:cNvPicPr/>
          <p:nvPr/>
        </p:nvPicPr>
        <p:blipFill>
          <a:blip r:embed="rId2"/>
          <a:stretch/>
        </p:blipFill>
        <p:spPr>
          <a:xfrm>
            <a:off x="1676520" y="4724280"/>
            <a:ext cx="5333760" cy="14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7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7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579096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105ca4"/>
                </a:solidFill>
                <a:latin typeface="Calibri"/>
              </a:rPr>
              <a:t>Les Pronoms </a:t>
            </a:r>
            <a:r>
              <a:rPr b="0" i="1" lang="fr-FR" sz="3600" spc="-1" strike="noStrike">
                <a:solidFill>
                  <a:srgbClr val="105ca4"/>
                </a:solidFill>
                <a:latin typeface="Calibri"/>
              </a:rPr>
              <a:t>LUI </a:t>
            </a:r>
            <a:r>
              <a:rPr b="0" lang="fr-FR" sz="3600" spc="-1" strike="noStrike">
                <a:solidFill>
                  <a:srgbClr val="105ca4"/>
                </a:solidFill>
                <a:latin typeface="Calibri"/>
              </a:rPr>
              <a:t>et</a:t>
            </a:r>
            <a:r>
              <a:rPr b="0" i="1" lang="fr-FR" sz="3600" spc="-1" strike="noStrike">
                <a:solidFill>
                  <a:srgbClr val="105ca4"/>
                </a:solidFill>
                <a:latin typeface="Calibri"/>
              </a:rPr>
              <a:t> LEUR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6" name=""/>
          <p:cNvSpPr txBox="1"/>
          <p:nvPr/>
        </p:nvSpPr>
        <p:spPr>
          <a:xfrm>
            <a:off x="685440" y="2285640"/>
            <a:ext cx="80773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404040"/>
                </a:solidFill>
                <a:latin typeface="Calibri"/>
              </a:rPr>
              <a:t>LUI/LEUR sont placés avant le verbe conjugué </a:t>
            </a:r>
            <a:r>
              <a:rPr b="1" lang="fr-FR" sz="4400" spc="-1" strike="noStrike">
                <a:solidFill>
                  <a:srgbClr val="404040"/>
                </a:solidFill>
                <a:latin typeface="Calibri"/>
              </a:rPr>
              <a:t>à l’infinitif.</a:t>
            </a:r>
            <a:endParaRPr b="0" lang="en-US" sz="4400" spc="-1" strike="noStrike">
              <a:solidFill>
                <a:srgbClr val="404040"/>
              </a:solidFill>
              <a:latin typeface="Calibri"/>
            </a:endParaRPr>
          </a:p>
          <a:p>
            <a:pPr lvl="1" marL="457200" indent="-228600">
              <a:spcBef>
                <a:spcPts val="6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404040"/>
                </a:solidFill>
                <a:latin typeface="Calibri"/>
              </a:rPr>
              <a:t>Il va offrir </a:t>
            </a:r>
            <a:r>
              <a:rPr b="1" lang="fr-FR" sz="3200" spc="-1" strike="noStrike">
                <a:solidFill>
                  <a:srgbClr val="404040"/>
                </a:solidFill>
                <a:latin typeface="Calibri"/>
              </a:rPr>
              <a:t>à ses sœurs</a:t>
            </a:r>
            <a:r>
              <a:rPr b="0" lang="fr-FR" sz="3200" spc="-1" strike="noStrike">
                <a:solidFill>
                  <a:srgbClr val="404040"/>
                </a:solidFill>
                <a:latin typeface="Calibri"/>
              </a:rPr>
              <a:t> des chocolats.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  <a:p>
            <a:pPr lvl="1" marL="457200" indent="-228600">
              <a:spcBef>
                <a:spcPts val="6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404040"/>
                </a:solidFill>
                <a:latin typeface="Calibri"/>
              </a:rPr>
              <a:t>Il </a:t>
            </a:r>
            <a:r>
              <a:rPr b="0" i="1" lang="fr-FR" sz="3200" spc="-1" strike="noStrike">
                <a:solidFill>
                  <a:srgbClr val="404040"/>
                </a:solidFill>
                <a:latin typeface="Calibri"/>
              </a:rPr>
              <a:t>va</a:t>
            </a:r>
            <a:r>
              <a:rPr b="0" lang="fr-FR" sz="32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fr-FR" sz="3200" spc="-1" strike="noStrike">
                <a:solidFill>
                  <a:srgbClr val="404040"/>
                </a:solidFill>
                <a:latin typeface="Calibri"/>
              </a:rPr>
              <a:t>leur</a:t>
            </a:r>
            <a:r>
              <a:rPr b="0" lang="fr-FR" sz="32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i="1" lang="fr-FR" sz="3200" spc="-1" strike="noStrike">
                <a:solidFill>
                  <a:srgbClr val="404040"/>
                </a:solidFill>
                <a:latin typeface="Calibri"/>
              </a:rPr>
              <a:t>offrir</a:t>
            </a:r>
            <a:r>
              <a:rPr b="0" lang="fr-FR" sz="3200" spc="-1" strike="noStrike">
                <a:solidFill>
                  <a:srgbClr val="404040"/>
                </a:solidFill>
                <a:latin typeface="Calibri"/>
              </a:rPr>
              <a:t> des chocolats!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7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7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7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7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7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7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Footer Placeholder 3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ahoma"/>
              </a:rPr>
              <a:t>© and ® 2011 Vista Higher Learning, Inc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8" name="Slide Number Placeholder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6B.1-</a:t>
            </a:r>
            <a:fld id="{4C257D9E-140E-42C2-B290-D314B9261E2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99" name="Picture 1" descr=""/>
          <p:cNvPicPr/>
          <p:nvPr/>
        </p:nvPicPr>
        <p:blipFill>
          <a:blip r:embed="rId2"/>
          <a:stretch/>
        </p:blipFill>
        <p:spPr>
          <a:xfrm>
            <a:off x="552600" y="1371600"/>
            <a:ext cx="8048520" cy="5106960"/>
          </a:xfrm>
          <a:prstGeom prst="rect">
            <a:avLst/>
          </a:prstGeom>
          <a:ln w="0">
            <a:noFill/>
          </a:ln>
        </p:spPr>
      </p:pic>
      <p:sp>
        <p:nvSpPr>
          <p:cNvPr id="800" name="Text Box 2"/>
          <p:cNvSpPr/>
          <p:nvPr/>
        </p:nvSpPr>
        <p:spPr>
          <a:xfrm>
            <a:off x="838080" y="838080"/>
            <a:ext cx="735660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Essayez!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Complétez les phrases avec le pronom </a:t>
            </a: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d’objet indirect approprié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801" name=""/>
          <p:cNvGraphicFramePr/>
          <p:nvPr/>
        </p:nvGraphicFramePr>
        <p:xfrm>
          <a:off x="838080" y="2590920"/>
          <a:ext cx="7621560" cy="3641760"/>
        </p:xfrm>
        <a:graphic>
          <a:graphicData uri="http://schemas.openxmlformats.org/drawingml/2006/table">
            <a:tbl>
              <a:tblPr/>
              <a:tblGrid>
                <a:gridCol w="7621560"/>
              </a:tblGrid>
              <a:tr h="3641760"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624"/>
                        </a:spcBef>
                        <a:spcAft>
                          <a:spcPts val="624"/>
                        </a:spcAft>
                        <a:tabLst>
                          <a:tab algn="l" pos="0"/>
                          <a:tab algn="l" pos="343080"/>
                          <a:tab algn="l" pos="912960"/>
                          <a:tab algn="l" pos="1827360"/>
                          <a:tab algn="l" pos="2741760"/>
                          <a:tab algn="l" pos="3656160"/>
                          <a:tab algn="l" pos="4570560"/>
                          <a:tab algn="l" pos="5484960"/>
                          <a:tab algn="l" pos="6399360"/>
                          <a:tab algn="l" pos="7313760"/>
                          <a:tab algn="l" pos="8228160"/>
                          <a:tab algn="l" pos="9142560"/>
                          <a:tab algn="l" pos="10056960"/>
                          <a:tab algn="l" pos="10058400"/>
                          <a:tab algn="l" pos="105156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.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Tu ________ montres tes photos? 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us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624"/>
                        </a:spcBef>
                        <a:spcAft>
                          <a:spcPts val="624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343080"/>
                          <a:tab algn="l" pos="912960"/>
                          <a:tab algn="l" pos="1827360"/>
                          <a:tab algn="l" pos="2741760"/>
                          <a:tab algn="l" pos="3656160"/>
                          <a:tab algn="l" pos="4570560"/>
                          <a:tab algn="l" pos="5484960"/>
                          <a:tab algn="l" pos="6399360"/>
                          <a:tab algn="l" pos="7313760"/>
                          <a:tab algn="l" pos="8228160"/>
                          <a:tab algn="l" pos="9142560"/>
                          <a:tab algn="l" pos="10056960"/>
                          <a:tab algn="l" pos="10058400"/>
                          <a:tab algn="l" pos="105156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.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Luc, je ____ donne ma nouvelle adresse. 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ou, fam.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624"/>
                        </a:spcBef>
                        <a:spcAft>
                          <a:spcPts val="624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343080"/>
                          <a:tab algn="l" pos="912960"/>
                          <a:tab algn="l" pos="1827360"/>
                          <a:tab algn="l" pos="2741760"/>
                          <a:tab algn="l" pos="3656160"/>
                          <a:tab algn="l" pos="4570560"/>
                          <a:tab algn="l" pos="5484960"/>
                          <a:tab algn="l" pos="6399360"/>
                          <a:tab algn="l" pos="7313760"/>
                          <a:tab algn="l" pos="8228160"/>
                          <a:tab algn="l" pos="9142560"/>
                          <a:tab algn="l" pos="10056960"/>
                          <a:tab algn="l" pos="10058400"/>
                          <a:tab algn="l" pos="105156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.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 Vous _______ posez de bonnes questions. 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m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624"/>
                        </a:spcBef>
                        <a:spcAft>
                          <a:spcPts val="624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343080"/>
                          <a:tab algn="l" pos="912960"/>
                          <a:tab algn="l" pos="1827360"/>
                          <a:tab algn="l" pos="2741760"/>
                          <a:tab algn="l" pos="3656160"/>
                          <a:tab algn="l" pos="4570560"/>
                          <a:tab algn="l" pos="5484960"/>
                          <a:tab algn="l" pos="6399360"/>
                          <a:tab algn="l" pos="7313760"/>
                          <a:tab algn="l" pos="8228160"/>
                          <a:tab algn="l" pos="9142560"/>
                          <a:tab algn="l" pos="10056960"/>
                          <a:tab algn="l" pos="10058400"/>
                          <a:tab algn="l" pos="105156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4.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 Nous ____   avons demandé. 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them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624"/>
                        </a:spcBef>
                        <a:spcAft>
                          <a:spcPts val="624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343080"/>
                          <a:tab algn="l" pos="912960"/>
                          <a:tab algn="l" pos="1827360"/>
                          <a:tab algn="l" pos="2741760"/>
                          <a:tab algn="l" pos="3656160"/>
                          <a:tab algn="l" pos="4570560"/>
                          <a:tab algn="l" pos="5484960"/>
                          <a:tab algn="l" pos="6399360"/>
                          <a:tab algn="l" pos="7313760"/>
                          <a:tab algn="l" pos="8228160"/>
                          <a:tab algn="l" pos="9142560"/>
                          <a:tab algn="l" pos="10056960"/>
                          <a:tab algn="l" pos="10058400"/>
                          <a:tab algn="l" pos="105156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.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 On ______ achète une nouvelle robe. 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ou, form.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624"/>
                        </a:spcBef>
                        <a:spcAft>
                          <a:spcPts val="624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343080"/>
                          <a:tab algn="l" pos="912960"/>
                          <a:tab algn="l" pos="1827360"/>
                          <a:tab algn="l" pos="2741760"/>
                          <a:tab algn="l" pos="3656160"/>
                          <a:tab algn="l" pos="4570560"/>
                          <a:tab algn="l" pos="5484960"/>
                          <a:tab algn="l" pos="6399360"/>
                          <a:tab algn="l" pos="7313760"/>
                          <a:tab algn="l" pos="8228160"/>
                          <a:tab algn="l" pos="9142560"/>
                          <a:tab algn="l" pos="10056960"/>
                          <a:tab algn="l" pos="10058400"/>
                          <a:tab algn="l" pos="105156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6.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 Ses parents ________ ont acheté un tailleur. 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her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624"/>
                        </a:spcBef>
                        <a:spcAft>
                          <a:spcPts val="624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343080"/>
                          <a:tab algn="l" pos="912960"/>
                          <a:tab algn="l" pos="1827360"/>
                          <a:tab algn="l" pos="2741760"/>
                          <a:tab algn="l" pos="3656160"/>
                          <a:tab algn="l" pos="4570560"/>
                          <a:tab algn="l" pos="5484960"/>
                          <a:tab algn="l" pos="6399360"/>
                          <a:tab algn="l" pos="7313760"/>
                          <a:tab algn="l" pos="8228160"/>
                          <a:tab algn="l" pos="9142560"/>
                          <a:tab algn="l" pos="10056960"/>
                          <a:tab algn="l" pos="10058400"/>
                          <a:tab algn="l" pos="105156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.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 Je vais ________ téléphoner à dix heures. 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him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624"/>
                        </a:spcBef>
                        <a:spcAft>
                          <a:spcPts val="624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343080"/>
                          <a:tab algn="l" pos="912960"/>
                          <a:tab algn="l" pos="1827360"/>
                          <a:tab algn="l" pos="2741760"/>
                          <a:tab algn="l" pos="3656160"/>
                          <a:tab algn="l" pos="4570560"/>
                          <a:tab algn="l" pos="5484960"/>
                          <a:tab algn="l" pos="6399360"/>
                          <a:tab algn="l" pos="7313760"/>
                          <a:tab algn="l" pos="8228160"/>
                          <a:tab algn="l" pos="9142560"/>
                          <a:tab algn="l" pos="10056960"/>
                          <a:tab algn="l" pos="10058400"/>
                          <a:tab algn="l" pos="105156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8.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 Elle va ________ prêter sa jupe. 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m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2" name="Text Box 5"/>
          <p:cNvSpPr/>
          <p:nvPr/>
        </p:nvSpPr>
        <p:spPr>
          <a:xfrm>
            <a:off x="1828800" y="2571840"/>
            <a:ext cx="7621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483c8"/>
                </a:solidFill>
                <a:latin typeface="Comic Sans MS"/>
              </a:rPr>
              <a:t>nous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3" name="Text Box 5"/>
          <p:cNvSpPr/>
          <p:nvPr/>
        </p:nvSpPr>
        <p:spPr>
          <a:xfrm>
            <a:off x="2057400" y="3048120"/>
            <a:ext cx="7621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483c8"/>
                </a:solidFill>
                <a:latin typeface="Comic Sans MS"/>
              </a:rPr>
              <a:t>te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4" name="Text Box 5"/>
          <p:cNvSpPr/>
          <p:nvPr/>
        </p:nvSpPr>
        <p:spPr>
          <a:xfrm>
            <a:off x="2057400" y="3429000"/>
            <a:ext cx="7621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483c8"/>
                </a:solidFill>
                <a:latin typeface="Comic Sans MS"/>
              </a:rPr>
              <a:t>me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5" name="Text Box 5"/>
          <p:cNvSpPr/>
          <p:nvPr/>
        </p:nvSpPr>
        <p:spPr>
          <a:xfrm>
            <a:off x="2209680" y="5638680"/>
            <a:ext cx="7621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483c8"/>
                </a:solidFill>
                <a:latin typeface="Comic Sans MS"/>
              </a:rPr>
              <a:t>me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6" name="Text Box 5"/>
          <p:cNvSpPr/>
          <p:nvPr/>
        </p:nvSpPr>
        <p:spPr>
          <a:xfrm>
            <a:off x="1523880" y="4267080"/>
            <a:ext cx="9907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483c8"/>
                </a:solidFill>
                <a:latin typeface="Comic Sans MS"/>
              </a:rPr>
              <a:t>vous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7" name="Text Box 5"/>
          <p:cNvSpPr/>
          <p:nvPr/>
        </p:nvSpPr>
        <p:spPr>
          <a:xfrm>
            <a:off x="2743200" y="4724280"/>
            <a:ext cx="9907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483c8"/>
                </a:solidFill>
                <a:latin typeface="Comic Sans MS"/>
              </a:rPr>
              <a:t>lui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8" name="Text Box 5"/>
          <p:cNvSpPr/>
          <p:nvPr/>
        </p:nvSpPr>
        <p:spPr>
          <a:xfrm>
            <a:off x="2209680" y="5181480"/>
            <a:ext cx="9907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483c8"/>
                </a:solidFill>
                <a:latin typeface="Comic Sans MS"/>
              </a:rPr>
              <a:t>lui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9" name="Text Box 5"/>
          <p:cNvSpPr/>
          <p:nvPr/>
        </p:nvSpPr>
        <p:spPr>
          <a:xfrm>
            <a:off x="1905120" y="3962520"/>
            <a:ext cx="7617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483c8"/>
                </a:solidFill>
                <a:latin typeface="Comic Sans MS"/>
              </a:rPr>
              <a:t>Leur 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1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6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1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6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1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6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1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6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1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6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e3e3"/>
                </a:solidFill>
                <a:latin typeface="Calibri"/>
              </a:rPr>
              <a:t>Les Pronoms Personnel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1" name="Text Box 6"/>
          <p:cNvSpPr/>
          <p:nvPr/>
        </p:nvSpPr>
        <p:spPr>
          <a:xfrm>
            <a:off x="2514600" y="2362320"/>
            <a:ext cx="2666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LA FIN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58" dur="2000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2000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98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d654"/>
                </a:solidFill>
                <a:latin typeface="Calibri"/>
              </a:rPr>
              <a:t>Pronoms Personnel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subTitle"/>
          </p:nvPr>
        </p:nvSpPr>
        <p:spPr>
          <a:xfrm>
            <a:off x="762120" y="1752120"/>
            <a:ext cx="441936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alibri"/>
              </a:rPr>
              <a:t>Antoine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joue de la guitare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8" name="Text Box 4"/>
          <p:cNvSpPr/>
          <p:nvPr/>
        </p:nvSpPr>
        <p:spPr>
          <a:xfrm>
            <a:off x="838080" y="2438280"/>
            <a:ext cx="7467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nom sujet : </a:t>
            </a:r>
            <a:r>
              <a:rPr b="0" lang="en-US" sz="3200" spc="-1" strike="noStrike" u="sng">
                <a:solidFill>
                  <a:srgbClr val="d2d200"/>
                </a:solidFill>
                <a:uFillTx/>
                <a:latin typeface="Tahoma"/>
              </a:rPr>
              <a:t>I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joue de la guit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9" name="Text Box 5"/>
          <p:cNvSpPr/>
          <p:nvPr/>
        </p:nvSpPr>
        <p:spPr>
          <a:xfrm>
            <a:off x="762120" y="3657600"/>
            <a:ext cx="647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us aimon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notre lycé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0" name="Text Box 6"/>
          <p:cNvSpPr/>
          <p:nvPr/>
        </p:nvSpPr>
        <p:spPr>
          <a:xfrm>
            <a:off x="1295280" y="4419720"/>
            <a:ext cx="413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us </a:t>
            </a:r>
            <a:r>
              <a:rPr b="0" lang="en-US" sz="3200" spc="-1" strike="noStrike" u="sng">
                <a:solidFill>
                  <a:srgbClr val="d2d200"/>
                </a:solidFill>
                <a:uFillTx/>
                <a:latin typeface="Tahom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’aim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1000"/>
                                        <p:tgtEl>
                                          <p:spTgt spid="7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d654"/>
                </a:solidFill>
                <a:latin typeface="Calibri"/>
              </a:rPr>
              <a:t>Pronoms Personnel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subTitle"/>
          </p:nvPr>
        </p:nvSpPr>
        <p:spPr>
          <a:xfrm>
            <a:off x="3276360" y="1447560"/>
            <a:ext cx="243828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alibri"/>
              </a:rPr>
              <a:t>SUJET</a:t>
            </a:r>
            <a:endParaRPr b="0" lang="en-US" sz="3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3" name="Text Box 4"/>
          <p:cNvSpPr/>
          <p:nvPr/>
        </p:nvSpPr>
        <p:spPr>
          <a:xfrm>
            <a:off x="1447920" y="2438280"/>
            <a:ext cx="6553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U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U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OU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L/ELL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LS/ELL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30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d654"/>
                </a:solidFill>
                <a:latin typeface="Calibri"/>
              </a:rPr>
              <a:t>Pronoms Personnel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3276360" y="1143000"/>
            <a:ext cx="24382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alibri"/>
              </a:rPr>
              <a:t>SUJET</a:t>
            </a:r>
            <a:endParaRPr b="0" lang="en-US" sz="3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6" name="Text Box 4"/>
          <p:cNvSpPr/>
          <p:nvPr/>
        </p:nvSpPr>
        <p:spPr>
          <a:xfrm>
            <a:off x="609480" y="1828800"/>
            <a:ext cx="8534520" cy="4480920"/>
          </a:xfrm>
          <a:prstGeom prst="rect">
            <a:avLst/>
          </a:prstGeom>
          <a:noFill/>
          <a:ln w="9360">
            <a:solidFill>
              <a:srgbClr val="d2d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mplace un nom de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ersonn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u de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hos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qui est sujet du verb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Antoin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joue de la guit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 u="sng">
                <a:solidFill>
                  <a:srgbClr val="d2d200"/>
                </a:solidFill>
                <a:uFillTx/>
                <a:latin typeface="Tahoma"/>
              </a:rPr>
              <a:t>I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joue de la guit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Ma voit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 une pan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 u="sng">
                <a:solidFill>
                  <a:srgbClr val="d2d200"/>
                </a:solidFill>
                <a:uFillTx/>
                <a:latin typeface="Tahoma"/>
              </a:rPr>
              <a:t>ELL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 une pan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d654"/>
                </a:solidFill>
                <a:latin typeface="Calibri"/>
              </a:rPr>
              <a:t>Pronoms Personnel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 type="subTitle"/>
          </p:nvPr>
        </p:nvSpPr>
        <p:spPr>
          <a:xfrm>
            <a:off x="2361960" y="990720"/>
            <a:ext cx="46479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alibri"/>
              </a:rPr>
              <a:t>Object Direct</a:t>
            </a:r>
            <a:endParaRPr b="0" lang="en-US" sz="3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9" name="Text Box 4"/>
          <p:cNvSpPr/>
          <p:nvPr/>
        </p:nvSpPr>
        <p:spPr>
          <a:xfrm>
            <a:off x="609480" y="1676520"/>
            <a:ext cx="7772400" cy="552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mplace un nom de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ersonn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u de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hos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qui complète  directement le verb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 nom est introduit par un article défini, un adjectif possessif ou démonstratif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e voi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le/mon/ce prof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e        voi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30" name="Picture 8" descr="j0212957"/>
          <p:cNvPicPr/>
          <p:nvPr/>
        </p:nvPicPr>
        <p:blipFill>
          <a:blip r:embed="rId2"/>
          <a:stretch/>
        </p:blipFill>
        <p:spPr>
          <a:xfrm>
            <a:off x="304920" y="304920"/>
            <a:ext cx="1523880" cy="957240"/>
          </a:xfrm>
          <a:prstGeom prst="rect">
            <a:avLst/>
          </a:prstGeom>
          <a:ln w="0">
            <a:noFill/>
          </a:ln>
        </p:spPr>
      </p:pic>
      <p:sp>
        <p:nvSpPr>
          <p:cNvPr id="731" name="Text Box 9"/>
          <p:cNvSpPr/>
          <p:nvPr/>
        </p:nvSpPr>
        <p:spPr>
          <a:xfrm>
            <a:off x="3124080" y="5638680"/>
            <a:ext cx="628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1.07258E-006 L -0.00851 0.08992 E">
                                      <p:cBhvr>
                                        <p:cTn id="72" dur="2000" fill="hold"/>
                                        <p:tgtEl>
                                          <p:spTgt spid="7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d654"/>
                </a:solidFill>
                <a:latin typeface="Calibri"/>
              </a:rPr>
              <a:t>Pronoms Personnel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 type="subTitle"/>
          </p:nvPr>
        </p:nvSpPr>
        <p:spPr>
          <a:xfrm>
            <a:off x="2361960" y="990720"/>
            <a:ext cx="46479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alibri"/>
              </a:rPr>
              <a:t>Object Direct</a:t>
            </a:r>
            <a:endParaRPr b="0" lang="en-US" sz="3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34" name="Text Box 4"/>
          <p:cNvSpPr/>
          <p:nvPr/>
        </p:nvSpPr>
        <p:spPr>
          <a:xfrm>
            <a:off x="609480" y="1676520"/>
            <a:ext cx="77724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mplace un nom de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ersonn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u de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hos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qui complète  directement le verb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e voi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ta nouvelle voit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e        voi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5" name="Text Box 6"/>
          <p:cNvSpPr/>
          <p:nvPr/>
        </p:nvSpPr>
        <p:spPr>
          <a:xfrm>
            <a:off x="2121480" y="41148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36" name="Picture 8" descr="j0212957"/>
          <p:cNvPicPr/>
          <p:nvPr/>
        </p:nvPicPr>
        <p:blipFill>
          <a:blip r:embed="rId2"/>
          <a:stretch/>
        </p:blipFill>
        <p:spPr>
          <a:xfrm>
            <a:off x="4419720" y="4495680"/>
            <a:ext cx="1830240" cy="114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30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30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4.81738E-006 L -0.00191 0.07999 E">
                                      <p:cBhvr>
                                        <p:cTn id="90" dur="2000" fill="hold"/>
                                        <p:tgtEl>
                                          <p:spTgt spid="7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d654"/>
                </a:solidFill>
                <a:latin typeface="Calibri"/>
              </a:rPr>
              <a:t>Pronoms Personnel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 type="subTitle"/>
          </p:nvPr>
        </p:nvSpPr>
        <p:spPr>
          <a:xfrm>
            <a:off x="2361960" y="990720"/>
            <a:ext cx="46479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alibri"/>
              </a:rPr>
              <a:t>Object Direct</a:t>
            </a:r>
            <a:endParaRPr b="0" lang="en-US" sz="3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39" name="Text Box 4"/>
          <p:cNvSpPr/>
          <p:nvPr/>
        </p:nvSpPr>
        <p:spPr>
          <a:xfrm>
            <a:off x="609480" y="1676520"/>
            <a:ext cx="77724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0" name="Text Box 8"/>
          <p:cNvSpPr/>
          <p:nvPr/>
        </p:nvSpPr>
        <p:spPr>
          <a:xfrm>
            <a:off x="1447920" y="2438280"/>
            <a:ext cx="65530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U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OU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 - L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’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20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d654"/>
                </a:solidFill>
                <a:latin typeface="Calibri"/>
              </a:rPr>
              <a:t>Pronoms Personnel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 type="subTitle"/>
          </p:nvPr>
        </p:nvSpPr>
        <p:spPr>
          <a:xfrm>
            <a:off x="2361960" y="990720"/>
            <a:ext cx="46479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alibri"/>
              </a:rPr>
              <a:t>Object Direct</a:t>
            </a:r>
            <a:endParaRPr b="0" lang="en-US" sz="3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43" name="Text Box 4"/>
          <p:cNvSpPr/>
          <p:nvPr/>
        </p:nvSpPr>
        <p:spPr>
          <a:xfrm>
            <a:off x="609480" y="1676520"/>
            <a:ext cx="77724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4" name="Text Box 5"/>
          <p:cNvSpPr/>
          <p:nvPr/>
        </p:nvSpPr>
        <p:spPr>
          <a:xfrm>
            <a:off x="838080" y="1905120"/>
            <a:ext cx="7696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 placent devant le verbe conjugué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5" name="Text Box 6"/>
          <p:cNvSpPr/>
          <p:nvPr/>
        </p:nvSpPr>
        <p:spPr>
          <a:xfrm>
            <a:off x="2133720" y="2743200"/>
            <a:ext cx="6172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’ador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ce livre de frança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6" name="Text Box 7"/>
          <p:cNvSpPr/>
          <p:nvPr/>
        </p:nvSpPr>
        <p:spPr>
          <a:xfrm>
            <a:off x="1744920" y="3505320"/>
            <a:ext cx="383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e        ad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7" name="Text Box 8"/>
          <p:cNvSpPr/>
          <p:nvPr/>
        </p:nvSpPr>
        <p:spPr>
          <a:xfrm>
            <a:off x="3124080" y="3505320"/>
            <a:ext cx="363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’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8" name="Text Box 9"/>
          <p:cNvSpPr/>
          <p:nvPr/>
        </p:nvSpPr>
        <p:spPr>
          <a:xfrm>
            <a:off x="1358640" y="4267080"/>
            <a:ext cx="762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us avons adoré ces vacan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9" name="Text Box 10"/>
          <p:cNvSpPr/>
          <p:nvPr/>
        </p:nvSpPr>
        <p:spPr>
          <a:xfrm>
            <a:off x="533520" y="4800600"/>
            <a:ext cx="556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us 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vons adoré</a:t>
            </a:r>
            <a:r>
              <a:rPr b="0" lang="en-US" sz="3200" spc="-1" strike="noStrike">
                <a:solidFill>
                  <a:srgbClr val="d2d200"/>
                </a:solidFill>
                <a:latin typeface="Tahoma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0" name="Text Box 11"/>
          <p:cNvSpPr/>
          <p:nvPr/>
        </p:nvSpPr>
        <p:spPr>
          <a:xfrm>
            <a:off x="1785600" y="487692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10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6T17:05:15Z</dcterms:created>
  <dc:creator>Mr. Smith</dc:creator>
  <dc:description/>
  <dc:language>en-US</dc:language>
  <cp:lastModifiedBy>Viviane Grebert</cp:lastModifiedBy>
  <dcterms:modified xsi:type="dcterms:W3CDTF">2011-11-26T18:21:42Z</dcterms:modified>
  <cp:revision>105</cp:revision>
  <dc:subject/>
  <dc:title>Allez, viens! – Level 2</dc:title>
</cp:coreProperties>
</file>